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AC2-8BCE-4D6F-852C-AAEFBCB5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97C-BA05-4AD0-9630-B9DDDF51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5C8-F958-4B2B-9EFA-8A764E25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D43-3CDF-40A6-8320-33153597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A56-3F05-404D-AA77-6D17521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167-14C5-4941-B24A-8A5D5176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78A-7C13-446F-A36A-0764EE11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F7F-6C78-4767-A940-CC2B944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E30-E2B3-49BA-839D-5879920B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AA4-1310-4FF1-869F-A71209C5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BA9-EB43-455E-9B90-B26A1FA0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E75-F64B-4E74-8129-B09064C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E36C-1E8A-468D-AC80-CFD45B0E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/1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the following aspects of patient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Lab Results/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IV test, He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Vital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art Rate,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sulin, 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DCM (and potentially HL7 R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81160" y="14400"/>
            <a:ext cx="49816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3-18T14:16:20Z</dcterms:modified>
  <cp:revision>42</cp:revision>
  <dc:subject/>
  <dc:title>Slide 1</dc:title>
</cp:coreProperties>
</file>